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8F5-700E-48E7-9C88-85150EB3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EA6-D385-44A2-A013-66776CE0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CD8-8706-4627-A792-5F9EAC35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746-36D1-478E-A947-18987BE2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B29C7-0918-425F-82DA-7AAFC37A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3E396-9FEA-435A-9C53-B16CB113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B0E6D-7BFB-4988-9EFA-4261565E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EC477-C7DC-4F06-BEA7-C239AC34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26B27-9099-4F6A-BD9E-2B7AD250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90728-3DCC-46CB-9E87-CCEFD498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D9BCB-8B19-4C7F-BE42-0708A391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B32-F860-44E1-9D1A-82C95E51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EC5FB-5912-4424-9F22-862A9D94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CABC7-B6D0-42BD-9FF1-59F25894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8D336-BABA-4B17-AD38-2E24C7E1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9F97D-1D0B-4EA0-ACDC-9976F540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65495-247E-4CA0-8A31-2E22CBE4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B67-ACA5-48ED-BFF8-71EB99F1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B318-C696-40F1-A6D8-A95B7206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889-BE8A-4C24-90A9-BFF2968C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D3E-229A-4DBE-88EC-26CD97D1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DF3-2237-4543-8FC5-C2C09749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4C2-1E13-4D07-A230-4E726A42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4E3-2DEC-4E19-BD6F-BDEE39A0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842D-96EE-4192-BD35-C6DFAD16F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A067-90E2-46B7-A50D-E72A38D785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ветовые явл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инзы. Построения в линз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63868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ливенко О.В., учитель физики МОУ СОШ №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723920" y="291960"/>
            <a:ext cx="396252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инзам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называются прозрачные тела, ограниченные с двух сторон сферическим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верхностями.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2120" y="2819520"/>
            <a:ext cx="3406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иды линз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1676520"/>
            <a:ext cx="8229240" cy="4342320"/>
            <a:chOff x="457200" y="1676520"/>
            <a:chExt cx="8229240" cy="4342320"/>
          </a:xfrm>
        </p:grpSpPr>
        <p:cxnSp>
          <p:nvCxnSpPr>
            <p:cNvPr id="90" name="_s44058"/>
            <p:cNvCxnSpPr>
              <a:stCxn id="91" idx="0"/>
              <a:endCxn id="92" idx="2"/>
            </p:cNvCxnSpPr>
            <p:nvPr/>
          </p:nvCxnSpPr>
          <p:spPr>
            <a:xfrm flipV="1" rot="16200000">
              <a:off x="7111800" y="3958920"/>
              <a:ext cx="543240" cy="1404720"/>
            </a:xfrm>
            <a:prstGeom prst="bentConnector3">
              <a:avLst>
                <a:gd name="adj1" fmla="val 210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44056"/>
            <p:cNvCxnSpPr>
              <a:stCxn id="94" idx="0"/>
              <a:endCxn id="92" idx="2"/>
            </p:cNvCxnSpPr>
            <p:nvPr/>
          </p:nvCxnSpPr>
          <p:spPr>
            <a:xfrm flipV="1">
              <a:off x="6681240" y="4389840"/>
              <a:ext cx="1800" cy="543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44054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707440" y="3958560"/>
              <a:ext cx="543240" cy="1405800"/>
            </a:xfrm>
            <a:prstGeom prst="bentConnector3">
              <a:avLst>
                <a:gd name="adj1" fmla="val 210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44052"/>
            <p:cNvCxnSpPr>
              <a:stCxn id="98" idx="0"/>
              <a:endCxn id="99" idx="2"/>
            </p:cNvCxnSpPr>
            <p:nvPr/>
          </p:nvCxnSpPr>
          <p:spPr>
            <a:xfrm flipV="1" rot="16200000">
              <a:off x="2896200" y="3957840"/>
              <a:ext cx="543240" cy="1407240"/>
            </a:xfrm>
            <a:prstGeom prst="bentConnector3">
              <a:avLst>
                <a:gd name="adj1" fmla="val 210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44050"/>
            <p:cNvCxnSpPr>
              <a:stCxn id="101" idx="0"/>
              <a:endCxn id="99" idx="2"/>
            </p:cNvCxnSpPr>
            <p:nvPr/>
          </p:nvCxnSpPr>
          <p:spPr>
            <a:xfrm flipV="1">
              <a:off x="2464560" y="4389840"/>
              <a:ext cx="1800" cy="543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44048"/>
            <p:cNvCxnSpPr>
              <a:stCxn id="103" idx="0"/>
              <a:endCxn id="99" idx="2"/>
            </p:cNvCxnSpPr>
            <p:nvPr/>
          </p:nvCxnSpPr>
          <p:spPr>
            <a:xfrm flipH="1" flipV="1" rot="5400000">
              <a:off x="1491120" y="3959280"/>
              <a:ext cx="543240" cy="1404720"/>
            </a:xfrm>
            <a:prstGeom prst="bentConnector3">
              <a:avLst>
                <a:gd name="adj1" fmla="val 210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44046"/>
            <p:cNvCxnSpPr>
              <a:stCxn id="92" idx="0"/>
              <a:endCxn id="105" idx="2"/>
            </p:cNvCxnSpPr>
            <p:nvPr/>
          </p:nvCxnSpPr>
          <p:spPr>
            <a:xfrm flipV="1" rot="16200000">
              <a:off x="5355000" y="1977480"/>
              <a:ext cx="543240" cy="2110320"/>
            </a:xfrm>
            <a:prstGeom prst="bentConnector3">
              <a:avLst>
                <a:gd name="adj1" fmla="val 210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6" name="_s44044"/>
            <p:cNvCxnSpPr>
              <a:stCxn id="99" idx="0"/>
              <a:endCxn id="105" idx="2"/>
            </p:cNvCxnSpPr>
            <p:nvPr/>
          </p:nvCxnSpPr>
          <p:spPr>
            <a:xfrm flipH="1" flipV="1" rot="5400000">
              <a:off x="3246840" y="1979280"/>
              <a:ext cx="543240" cy="2107440"/>
            </a:xfrm>
            <a:prstGeom prst="bentConnector3">
              <a:avLst>
                <a:gd name="adj1" fmla="val 210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" name="_s44040"/>
            <p:cNvSpPr/>
            <p:nvPr/>
          </p:nvSpPr>
          <p:spPr>
            <a:xfrm>
              <a:off x="3969360" y="1676520"/>
              <a:ext cx="1204560" cy="1085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ahoma"/>
                </a:rPr>
                <a:t>линз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44041"/>
            <p:cNvSpPr/>
            <p:nvPr/>
          </p:nvSpPr>
          <p:spPr>
            <a:xfrm>
              <a:off x="1862640" y="3304800"/>
              <a:ext cx="1204560" cy="1085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Выпукл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44043"/>
            <p:cNvSpPr/>
            <p:nvPr/>
          </p:nvSpPr>
          <p:spPr>
            <a:xfrm>
              <a:off x="6077880" y="3304800"/>
              <a:ext cx="1204560" cy="1085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ahoma"/>
                </a:rPr>
                <a:t>Вогнут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44047"/>
            <p:cNvSpPr/>
            <p:nvPr/>
          </p:nvSpPr>
          <p:spPr>
            <a:xfrm>
              <a:off x="457200" y="4933440"/>
              <a:ext cx="1204560" cy="1085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Tahoma"/>
                </a:rPr>
                <a:t>Двояковыпукл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44049"/>
            <p:cNvSpPr/>
            <p:nvPr/>
          </p:nvSpPr>
          <p:spPr>
            <a:xfrm>
              <a:off x="1862640" y="4933440"/>
              <a:ext cx="1204560" cy="1085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Tahoma"/>
                </a:rPr>
                <a:t>плосковыпукл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44051"/>
            <p:cNvSpPr/>
            <p:nvPr/>
          </p:nvSpPr>
          <p:spPr>
            <a:xfrm>
              <a:off x="3268080" y="4933440"/>
              <a:ext cx="1204560" cy="1085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Tahoma"/>
                </a:rPr>
                <a:t>Вогнуто-выпукл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44053"/>
            <p:cNvSpPr/>
            <p:nvPr/>
          </p:nvSpPr>
          <p:spPr>
            <a:xfrm>
              <a:off x="4673520" y="4933440"/>
              <a:ext cx="1204560" cy="1085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Tahoma"/>
                </a:rPr>
                <a:t>двояковогнут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44055"/>
            <p:cNvSpPr/>
            <p:nvPr/>
          </p:nvSpPr>
          <p:spPr>
            <a:xfrm>
              <a:off x="6079320" y="4933440"/>
              <a:ext cx="1203480" cy="1085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Tahoma"/>
                </a:rPr>
                <a:t>плосковогнут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44057"/>
            <p:cNvSpPr/>
            <p:nvPr/>
          </p:nvSpPr>
          <p:spPr>
            <a:xfrm>
              <a:off x="7483320" y="4933440"/>
              <a:ext cx="1203120" cy="1085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Tahoma"/>
                </a:rPr>
                <a:t>Выпукло-вогнута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сновные элементы линз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886200"/>
            <a:ext cx="6477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2666880"/>
            <a:ext cx="0" cy="23623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191120" y="2666880"/>
            <a:ext cx="15228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343040" y="2666880"/>
            <a:ext cx="15228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190760" y="4648320"/>
            <a:ext cx="15228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343400" y="4648320"/>
            <a:ext cx="15228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3733920"/>
            <a:ext cx="0" cy="30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3733920"/>
            <a:ext cx="0" cy="30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4956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Главная оптическая о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476760" y="3885840"/>
            <a:ext cx="609480" cy="6858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82880" y="4722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Фоку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362320" y="4495320"/>
            <a:ext cx="457200" cy="2286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5410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Собирающая лин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495320" y="5028840"/>
            <a:ext cx="381240" cy="3049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3809880"/>
            <a:ext cx="152640" cy="76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28195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Оптический центр лин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95680" y="3200400"/>
            <a:ext cx="457200" cy="533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ипы линз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1.Собирающая лин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2.Рассеивающая лин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124080"/>
            <a:ext cx="0" cy="19051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4114800"/>
            <a:ext cx="2438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3962520"/>
            <a:ext cx="236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3124080"/>
            <a:ext cx="0" cy="1600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629400" y="2971440"/>
            <a:ext cx="15228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476760" y="2971440"/>
            <a:ext cx="15228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476760" y="4724280"/>
            <a:ext cx="15228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4724280"/>
            <a:ext cx="15228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562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Собирает лу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5486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Рассеивают лу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строение в собирающей линз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3962520"/>
            <a:ext cx="6858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2438280"/>
            <a:ext cx="0" cy="29718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80988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380988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4191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419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752480" y="3048120"/>
            <a:ext cx="0" cy="9144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3048120"/>
            <a:ext cx="6400800" cy="22096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3048120"/>
            <a:ext cx="266724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3048120"/>
            <a:ext cx="3657600" cy="24382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4876920"/>
            <a:ext cx="15228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3962520"/>
            <a:ext cx="0" cy="99036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48769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296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01000" y="5638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строение в рассеивающей линз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962520"/>
            <a:ext cx="7162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2666880"/>
            <a:ext cx="0" cy="2438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191120" y="2514240"/>
            <a:ext cx="22860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962160" y="2514240"/>
            <a:ext cx="22860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962160" y="5105520"/>
            <a:ext cx="22860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5105520"/>
            <a:ext cx="22860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380988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380988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600200" y="2971800"/>
            <a:ext cx="0" cy="9907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2971800"/>
            <a:ext cx="5257800" cy="19810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00200" y="2971800"/>
            <a:ext cx="259092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35053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200400" y="3505320"/>
            <a:ext cx="0" cy="4572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388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800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3048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91120" y="1981080"/>
            <a:ext cx="1676160" cy="9907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447920" y="2971800"/>
            <a:ext cx="2743200" cy="1752480"/>
          </a:xfrm>
          <a:prstGeom prst="line">
            <a:avLst/>
          </a:prstGeom>
          <a:ln w="572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62120" y="3505320"/>
            <a:ext cx="7391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1752480"/>
            <a:ext cx="0" cy="33530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335268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335268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200400" y="2742840"/>
            <a:ext cx="0" cy="7621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8120" y="3657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3657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743200"/>
            <a:ext cx="4038480" cy="2666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2743200"/>
            <a:ext cx="114300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2743200"/>
            <a:ext cx="3657600" cy="2286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3581280"/>
            <a:ext cx="8458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2057400"/>
            <a:ext cx="0" cy="30481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3429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3429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200400" y="2819520"/>
            <a:ext cx="0" cy="76176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2819520"/>
            <a:ext cx="4648320" cy="320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28195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2819520"/>
            <a:ext cx="4191120" cy="1981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380520" y="685440"/>
            <a:ext cx="3886200" cy="21337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457200" y="685440"/>
            <a:ext cx="2743200" cy="21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762120"/>
            <a:ext cx="7596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533160" y="761760"/>
            <a:ext cx="75960" cy="28191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6-11-28T10:34:2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